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E133-28F0-4BEB-9BE8-4EA5B03B4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835D-02E1-43D1-BD4C-13B4B7178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82C759-22EC-4B71-B42C-7317E3253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6A7505-C847-45B3-8D33-7337C0FC5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C10A3C-EC39-44F8-B4D6-09E668680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B877EC-B51B-4915-8B8C-DA082296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71DE6D-DD74-475B-B9C0-9371EE3F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DC8B16-3274-4A57-B0F4-8414D065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4D60B8-E55F-4C0B-BD29-3E2427E62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BF5056-C5DB-4580-AF2F-FC931AD91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1D9251-156F-4F16-B974-061680E37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5A5DCE-1B64-45F1-ABB1-FCD8C2CEC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58E1-F353-423A-9A6E-32607DA16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96F219-FE0F-4F53-891A-BBB1CB296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A20ACB-8582-4A37-9CDD-A3270A605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53A070-9452-448B-93BA-A471B9988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5E79AE-A23F-480F-8230-F1021DBFF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E90381-A158-4043-8429-F705E911A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A41D2F-2FD1-4088-87C5-D532EE7D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AD0763-9A43-4F3A-8C36-2BA08A22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5378BB-120E-4569-AA1E-3A93753C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12B6F6-9892-4CC7-BFB8-FAF305386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63B642-BA84-406D-85AD-CF6F5395D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DC6B-5002-4AC8-9A7E-7FDD26C9A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A65403-0D55-45D3-B55D-7BA38853D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D55E70-D939-423B-A7C8-437E4EAE8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F4C4F5-A1FB-477F-A3DC-15A3A49FD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CB660A-AA34-4699-B527-78FFD9A83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E5251B-8CB3-4FD9-A6E8-D9FB97493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4541F4-D495-47F5-9922-A7E6F96C2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F405B9-6266-4067-AEF0-B69CBE8F3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30EC5B-A91D-4A10-9D72-A7CFFC85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0D2396-1615-4199-8754-ED6A9BD5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B5B8C3-5B3D-45B5-93F3-73B2036C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7F7BF-EEBA-48D0-ADFA-29FCBF72D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096253-34FB-4CC0-82C3-DBDB71105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A451E8-EFAE-4974-A77E-828D2C231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18014E-7CDD-47F4-8E64-743A01CB5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5374EA-C6C8-46F3-9292-BFFBDE4AD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CF8812-8D25-4032-BEB8-12D4F925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C06A1D-C92D-4340-AE1C-48672DE05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4F07A0-FC0D-45B9-9E4A-55DFC6588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0BF298-BB90-4894-AE00-17224CDED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BD3B18-5AD3-4B47-9D57-52A5B54DC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5532DF-D2D8-41F1-8570-6DE14CA7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577A1-F294-4528-A035-78E89F1DE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7A1E96-04A6-4C89-A82E-B18ABBD06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11B42F-B5C5-462F-A178-7A06BFF2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607B4E-0FAD-42F8-A001-DBD0FD3BC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F5F63F-FF2B-401D-BD29-2EB1D1344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FDA9DA-F0E6-4494-BC7E-930753A93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AD0794-7EFE-4361-9D94-E223D9092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65E4A3-3E52-48B9-B517-0AA0E481F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1C6547-17EA-4E1D-9ED8-00A444AB2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520FFA-B6D1-4F50-8068-4505C6269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6A8903-BC4D-4784-AAD9-444676F9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C34D7-3C10-4E22-BC11-956FF68CD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C14D7C-664D-4F65-A105-62B013B75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0DDC1F-75F8-4860-9EB5-9F01BD85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BBFEF9-D82A-4BFB-B6A7-395C0AB0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AA4E8C-A405-47B4-9714-BEC28E0C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498934-2438-4823-AF4C-B406DAB71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13E6E1-9CD9-4EC9-9EA4-A643A5482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3F64D7-EC59-4915-9FAF-4F8B7CA21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A52A96-7052-44FD-858C-A15AD4BA0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534001-EF02-4831-AC3D-4DCE48986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5BBCE4-61FE-40D2-B54C-85EC9A29F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2A1FE-EA91-400E-A7B4-01E8DFD34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4DB740-020E-4E82-9902-A59430D0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A85CF1-64A9-419D-8160-85141494C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DCA1F4-827A-48C0-ADE1-38F15EB97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E0F18D-FB87-45BB-81F1-ABF51F81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980416-8B0E-48E0-81CC-503A9340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51E6EA-3C00-47DB-BD5A-97A08B59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E40423-E125-4F85-B62A-5AFC89769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FD84E9-1BA7-4E58-8EA7-B74981BC1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AB2E41-9AC2-45C1-8F34-18F423C1E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36BE46-5347-48CC-916F-7D32E514E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65B04-CD58-464B-8B4B-5EC45A8FE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A2D81D-80EB-4D03-8ACA-0917D3DED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E9341E-A6E9-477E-B929-A3BCE84C3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8D526C-FFEE-4D7E-9311-87E66CB20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BBB6A7-D8F6-4210-8FC1-C571C1B16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ECD035-0BA1-48B6-B6BD-42A74E984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DF5507-A58C-4687-8446-3E987344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71FA68-DB98-484A-ABE5-089920B0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5D17C3-0A99-49C2-B9CE-B221A3CC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39F913-A787-4844-9A87-73EFFC4BA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C4166F-3877-4A97-9F20-183BBCE16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BF7B1-9BE5-4AFC-B665-610A56D8F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C0DBF2-0565-432A-8EED-5F598AC82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DBA09F-1706-404C-80E4-5CA7B037E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47A182-8B42-49EA-A577-60D5182F8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8ED469-C15B-4130-BC5F-3E26E6F8C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E6616D-AF21-42B8-8BAE-7D2CA05B3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91FDEA-7A64-4D3F-BB49-698ADFD22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A9803F-7B2E-4A8F-B3D7-7176314C3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CA2642-59B4-4C8E-9D95-B6FC7AF0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AB4D19-E5E0-4F96-8D3A-75E75721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45F60B-03BA-4AF5-964B-359D0373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DCE99-7E81-41B1-BC79-3CDF8BB7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B3F907-4AB9-4FD9-AEFC-5EDA5D539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0154C8-7C92-4B94-A5F0-90F987F7A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A9B233-6089-4A7E-B8DA-054A1202A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ADF112-74DF-47AC-84AD-FCB71844B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C18D8F-343D-4D34-B09F-5642F6C0A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5C8F6F-1CEE-4F10-8D6A-CC75AD754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5DC649-C437-4C30-AD3E-5A1741D2D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4F6E49-CDB2-4748-8DB1-5C6836E08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D632A8-06C6-47F4-986D-61C7DBD82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738D1C-E23F-405C-A828-24733B1F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EC85-45AA-456A-BDC9-FCF1EA89E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E84C2-69FE-43BF-887C-78A30FC4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2C8D3B-96B0-41F7-8D99-8FA4A2DF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61181A-6140-4C55-9934-9B3AFAF2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E62A81-759E-443F-AC5A-2382337E5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E9B29F-112D-4F9C-AD97-AD6114966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8A252F-359B-43AF-9BF3-37DC3462D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6567D9-1D21-4BBD-90FC-0FABC4C0E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DB41C2-020E-4479-93D6-616E542A4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E21EF6-B0B2-45A3-87ED-BF41FD5EE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7E7649-2E37-47EA-AABF-EFEEFF270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F99BD1-EAF0-49A1-B728-AEDEABC91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1C0BA-7805-4D61-A408-03488D0F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740BE9-2072-4069-A102-8EAEB2303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18362F-38A3-4944-A995-6D844907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150E4A-2B38-4710-BB98-88D1742E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B7D213-08A4-4BDE-A639-29DA3E23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06ECE2-F580-4861-9952-1724D132E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368E9C-5559-4111-B7D5-78A8BA431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CD5AD1-D903-4B97-9B4F-ECCBB293E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66C765-B185-48F5-9A7F-3A62A3EE1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BAD63D-5AB1-4ADB-8136-A6AF67705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5CAAF5-A33B-43B3-8EAA-763FA8F67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0DEE6-F3C0-44B5-8364-3ADB0A9B0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DD781F-EEF5-422F-BFDA-BA4E2C38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18AB4F-CE95-4FFD-8BC1-FDC76F0D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5111AD-1274-4EE8-B323-02416F04F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FDDAE3-A395-4366-81A5-90FB9623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593F21-40D5-4754-84DF-EB988305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D4176F-348D-4E43-9E22-56A9C29B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B26B8B-FCCA-4346-8F10-FB5AA68D5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474C6A-096C-44A5-9B32-7D665F18F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E0495D-6038-4717-A1A8-D92D6FBC8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04DFBA-1BAF-46D3-AE99-85687754C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E1096-FCEA-4071-B283-BC4949F11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59F05A-76AD-4610-9E48-B4B6E4906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BBE3C0-F83F-43CB-A7D1-BA98ECB69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07ADB0-BEC4-4E53-8BCE-686B583EB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B7AC2C-03C0-4CE6-8BDE-BCFA18F9D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35A25C-8C5A-487D-8C99-0F8D8E8CC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BFE083-8F16-4B99-A102-C2ADE763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6C3DE2-CE59-4C2E-BFBE-4D2CBB29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466E5D-A4FC-4F35-BACE-E0BFF8BB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0DC8B1-AB4C-42F1-ABCF-D8DA7E17E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3882FD-3D19-4187-8032-072081C4E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49083-5113-4685-A70E-1DBB96CA5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607EBB-F0CB-4EA9-93B5-43F249EF6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304AA8-2FF2-41AB-B051-BD16471E1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2F9737-9617-40A2-9594-E923AC7DD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703F06-7CA6-40F9-8666-E5F7E9BE6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2D2B31-4773-45EA-B61D-60DF09904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3E7C7E-17BB-42BB-8BBD-F077CE063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2D4065-9C40-4ABA-89FC-8BD1C68EC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5E8BDA-CA0F-446B-8370-9286C92D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5ED173-7ADD-46D4-8C1C-C9662577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F28A1F-4179-45A7-A2B0-F82609A5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8BB9C-C895-495D-9123-552C0A673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7E3926-D04B-40F8-8FF3-95D6316C3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21E5BA-EECC-47FB-B905-461C82ACD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A4353C-459F-440E-AC63-C8C9420ED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AE6F9-10D8-4C83-98BB-A82FEBA40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16E7B-4DC2-4D3D-82BF-7B1B47732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92731-F25D-4BE9-A147-60D3E0FCC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997F4-B08F-48AE-AA5F-82C8F43D4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81BD-D0BA-43E3-B9BD-98F5A457F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01096-D3BC-4D2B-8F9E-B0E8D5B50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57D89-0AAD-4CC4-8999-C7B75F6D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C44DB-9CF2-4FE1-8D92-FD403127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B85B4-A3E7-4A13-816E-4FC85353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98D0E-B8E9-4340-AA43-19046B061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24D16-6559-4AE8-882F-DEE942F9B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0AF4F-6176-4B9F-B97C-4E49C9F95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9197B-47B9-4B6C-98D0-5C98A803F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CAD72-E543-4C8F-9D0E-8C61DF198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E2210-FB59-48CC-9546-B83EAC7BE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DC5A-F213-435A-8102-0F83191B0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8EAA7-BE9B-4416-A76D-7C207263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993C5-CBC4-4BBA-AFF2-A7C9CC83B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57098-2BF9-4DC3-A462-E3162013C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A351F-D24D-4232-9FD9-5FD1D4B8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E76D6-BFF0-47D5-9305-DE0FFC53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0E4E3-E111-4E37-9214-260F23CB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3128C-DE65-4E75-BA2E-61F8CAA41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7D778-8D21-4DAE-ABEA-5CC56B428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2D4F6-FFFB-433C-BE35-F16D25FB7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32B9F-918A-4C62-B44C-AE3452BB9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5F1C-4DC7-4BA0-8F84-8A18A5857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A7ABC-5747-48CD-A88F-876FBAC74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3A422-06B8-421C-ADB9-CBED6B03E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DEB70-7DB3-4DD0-8EAE-1985BF244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2C14C-255C-4E8E-89CA-EF6E25358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47C69-3B85-4C1D-AA8A-7D55E49B0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CDD2B-8F40-48DE-A44E-DD23F373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C867A-A9BD-435D-9EB7-4BA531C2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A5EDF-7885-4AAA-A5E0-7A9288C1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AD325-D330-4529-92B8-486ECD87D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F3EB3-2EE4-468C-B5BA-ED8D79AD2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92DC-8752-4BB7-A2AB-BCCF29D0E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21D47-7C63-404C-A83B-E25A7E383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BF715-1D02-4E8B-8BAB-3188C6354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1C8B4A-67EB-453E-A139-625B47E8C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61CBC-5A1C-4447-B92C-E4C40EE98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1C3461-918A-4D56-917B-12809FA9F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7FFDD-C9CA-49DB-89DE-2C8D5367F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AC059-7F68-4684-BF33-E4E3F6779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EF30D-0850-4A8D-B7FA-27EE70DF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066E7-FC4A-46AF-B449-111C497C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4BE7E-8C22-411D-B806-FCC5A952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8748-1029-462A-AAD9-E6D3B77F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36594-2B10-4221-BE11-CCC6B84B4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83E96-F0FB-482D-9B2C-7574BD29B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D903B-BE46-4AC8-A08F-FA3481879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36174-E4A7-4AA5-B492-AF6CB1B8B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5147F1-402A-43B6-9AAE-18794E043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6CC71-87AD-4695-8964-50DDDC541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9CA4B7-869A-45F6-9076-12112D1CD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CA86A7-9DB0-469F-A08F-14AF0E3ED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EB4C3-84BC-4F47-8856-08193C39E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9986E5-4ADD-492D-9B7D-B8494C79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EBB4-19E1-4E78-82F2-8A5A10E0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75F117-F264-45E5-A1E2-17FA9AE6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FE339-6E23-4469-93A7-276C9C9D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CB165-47B2-4D96-81C9-85157684D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AC601-E143-4178-AC62-2176C6421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07C53-F610-4BB6-A576-2CA61ACA3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A60CD1-A7D8-4077-8479-4583DEBA4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70E6F6-1D40-4A20-BE8D-537DC6028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FCC587-1050-45EE-AAB7-9905D1DE3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1484E3-CB70-43B2-95DA-83B9A01C0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D7743C-336D-4E2F-97BA-055FFA23A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AAEA-A417-446B-A3B1-C8F86308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6F6AE4-29D7-48E7-BDD9-21B108684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E078FC-74B7-4A47-BBD7-01A25FB4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D12532-39DD-482A-82BF-D148803B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8B7A64-1524-4582-96FF-884C3A4B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2E2172-FC0C-4590-9748-F4535F9F2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0E9E57-17BE-4DFF-968B-59427B44E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A2F35A-22DD-4723-BFC7-8209642A4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35672C-1A38-476E-ADE5-9845F3EBF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29CDD8-A225-4630-8C32-E5E96CD76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5F70BB-E8C8-4AF9-A730-2701A4A0F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98527-943A-4FEA-94E6-F474A57352D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DA729-E43B-42B2-ACC3-3149043055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38233-AFF9-4E32-8BBF-9494402372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7DB8B-DB02-400C-B308-1B1A39BA9A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AA2C1-3C82-4995-A7D3-9520A5072A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AC8C9-374B-40AE-8E0B-69300AE4BA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CF587-5494-4515-8C83-E05FCA4671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847B5-6349-4A86-958D-B990C76C4D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38C29-3337-4AF0-A773-1DE0BBE6EB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E8442-6DDD-49E2-8867-E8D733F480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8B633-877B-45E6-8BFA-107A71FD59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C3796-0AB2-4D00-B515-DB2C953F3BD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90BA9-AA63-4BCC-8FF4-FA9C60B30A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C3521-AFFD-4177-B5CA-03DB864A36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D7950-81D1-48FF-BEED-08A11A6463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2A6C3-4948-46C2-A1D0-C5A1F7BF4D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B9DC4-55E9-4A70-B359-06D9BE6CC6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47F1-0D79-4A73-BF33-BA04F5AE47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8BDE7-2E9D-4C3E-8996-CB34E99EAC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3F501-99A6-493B-AFB8-5E767D08DF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BCCD4-C147-417C-AFC4-28BE175ED8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4FE76-E761-4DED-A00C-BD997C0156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7462D-442F-42A7-803D-F6372980B9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F1EE2-1B19-4177-AB88-AEDDE2B63F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FC85A-564F-45F7-BF77-520665EB41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7DAE3-7FFD-4B29-8F4F-1A84DBDD24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BA9C5-729C-4696-84F8-73FC74B0CE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20914-69DE-48F3-A4A1-D0219D87A88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0808F-7A33-400A-BE0F-74FEFC45B4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6E07F-157D-4E78-95E9-A8072AA293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FD34F-6691-4F6F-A804-72665674E3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D9457-5FA6-425E-8327-5B503058EA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FC949-8283-45CF-916A-9CB6224639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F8CC7-9F7C-49D1-A162-5D51514EC6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86653-3228-4CCD-B7E4-BC4C66FEBF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E7411-4BAF-4160-82E3-DB03FEE2AA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5857D-26B5-43FA-9478-CD04B9EA9E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54A57-15DD-48C7-AC47-9CED972952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38E21-86BC-4E26-9E1F-C88EE743D2B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2BB94-87BD-4BE8-BF8C-79C7649F5E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709720" y="3205080"/>
            <a:ext cx="37245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138240" y="1266840"/>
            <a:ext cx="8867520" cy="432432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2556000" y="2502000"/>
            <a:ext cx="339480" cy="2570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5148360" y="2511360"/>
            <a:ext cx="718920" cy="25740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3348000" y="2924280"/>
            <a:ext cx="719280" cy="2570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5508720" y="2924280"/>
            <a:ext cx="863640" cy="2570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6588000" y="3303720"/>
            <a:ext cx="719280" cy="2570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7093080" y="3716280"/>
            <a:ext cx="718920" cy="25740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1908000" y="4095720"/>
            <a:ext cx="719280" cy="2570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1908000" y="4508640"/>
            <a:ext cx="719280" cy="2570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3348000" y="4508640"/>
            <a:ext cx="719280" cy="2570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1"/>
          <a:stretch/>
        </p:blipFill>
        <p:spPr>
          <a:xfrm>
            <a:off x="4716360" y="4518000"/>
            <a:ext cx="432000" cy="2570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2"/>
          <a:stretch/>
        </p:blipFill>
        <p:spPr>
          <a:xfrm>
            <a:off x="1908000" y="4897440"/>
            <a:ext cx="719280" cy="2570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13"/>
          <a:stretch/>
        </p:blipFill>
        <p:spPr>
          <a:xfrm>
            <a:off x="3357720" y="4916520"/>
            <a:ext cx="431640" cy="2570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14"/>
          <a:stretch/>
        </p:blipFill>
        <p:spPr>
          <a:xfrm>
            <a:off x="1908000" y="5300640"/>
            <a:ext cx="719280" cy="2570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15"/>
          <a:stretch/>
        </p:blipFill>
        <p:spPr>
          <a:xfrm>
            <a:off x="3492360" y="5300640"/>
            <a:ext cx="43200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7" name="图片 59410" descr=""/>
          <p:cNvPicPr/>
          <p:nvPr/>
        </p:nvPicPr>
        <p:blipFill>
          <a:blip r:embed="rId1"/>
          <a:stretch/>
        </p:blipFill>
        <p:spPr>
          <a:xfrm>
            <a:off x="285840" y="1285920"/>
            <a:ext cx="8572320" cy="428616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2"/>
          <a:stretch/>
        </p:blipFill>
        <p:spPr>
          <a:xfrm>
            <a:off x="1476360" y="3160800"/>
            <a:ext cx="1440000" cy="2570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3"/>
          <a:stretch/>
        </p:blipFill>
        <p:spPr>
          <a:xfrm>
            <a:off x="1403280" y="3573360"/>
            <a:ext cx="1440000" cy="25740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4"/>
          <a:stretch/>
        </p:blipFill>
        <p:spPr>
          <a:xfrm>
            <a:off x="3995640" y="3160800"/>
            <a:ext cx="1800360" cy="2570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5"/>
          <a:stretch/>
        </p:blipFill>
        <p:spPr>
          <a:xfrm>
            <a:off x="4067280" y="3564000"/>
            <a:ext cx="1439640" cy="2570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6"/>
          <a:stretch/>
        </p:blipFill>
        <p:spPr>
          <a:xfrm>
            <a:off x="6877080" y="3151080"/>
            <a:ext cx="1727280" cy="25740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7"/>
          <a:stretch/>
        </p:blipFill>
        <p:spPr>
          <a:xfrm>
            <a:off x="6804000" y="3564000"/>
            <a:ext cx="1727280" cy="257040"/>
          </a:xfrm>
          <a:prstGeom prst="rect">
            <a:avLst/>
          </a:prstGeom>
          <a:ln w="0">
            <a:noFill/>
          </a:ln>
        </p:spPr>
      </p:pic>
      <p:pic>
        <p:nvPicPr>
          <p:cNvPr id="944" name="图片 59417" descr=""/>
          <p:cNvPicPr/>
          <p:nvPr/>
        </p:nvPicPr>
        <p:blipFill>
          <a:blip r:embed="rId8"/>
          <a:stretch/>
        </p:blipFill>
        <p:spPr>
          <a:xfrm>
            <a:off x="1647720" y="4508640"/>
            <a:ext cx="325440" cy="357120"/>
          </a:xfrm>
          <a:prstGeom prst="rect">
            <a:avLst/>
          </a:prstGeom>
          <a:ln w="0">
            <a:noFill/>
          </a:ln>
        </p:spPr>
      </p:pic>
      <p:pic>
        <p:nvPicPr>
          <p:cNvPr id="945" name="图片 59418" descr=""/>
          <p:cNvPicPr/>
          <p:nvPr/>
        </p:nvPicPr>
        <p:blipFill>
          <a:blip r:embed="rId9"/>
          <a:stretch/>
        </p:blipFill>
        <p:spPr>
          <a:xfrm>
            <a:off x="4581360" y="4503600"/>
            <a:ext cx="325440" cy="357480"/>
          </a:xfrm>
          <a:prstGeom prst="rect">
            <a:avLst/>
          </a:prstGeom>
          <a:ln w="0">
            <a:noFill/>
          </a:ln>
        </p:spPr>
      </p:pic>
      <p:pic>
        <p:nvPicPr>
          <p:cNvPr id="946" name="图片 59419" descr=""/>
          <p:cNvPicPr/>
          <p:nvPr/>
        </p:nvPicPr>
        <p:blipFill>
          <a:blip r:embed="rId10"/>
          <a:stretch/>
        </p:blipFill>
        <p:spPr>
          <a:xfrm>
            <a:off x="7515360" y="4494240"/>
            <a:ext cx="325440" cy="357120"/>
          </a:xfrm>
          <a:prstGeom prst="rect">
            <a:avLst/>
          </a:prstGeom>
          <a:ln w="0">
            <a:noFill/>
          </a:ln>
        </p:spPr>
      </p:pic>
      <p:pic>
        <p:nvPicPr>
          <p:cNvPr id="947" name="图片 59420" descr=""/>
          <p:cNvPicPr/>
          <p:nvPr/>
        </p:nvPicPr>
        <p:blipFill>
          <a:blip r:embed="rId11"/>
          <a:stretch/>
        </p:blipFill>
        <p:spPr>
          <a:xfrm>
            <a:off x="1647720" y="5103720"/>
            <a:ext cx="325440" cy="357120"/>
          </a:xfrm>
          <a:prstGeom prst="rect">
            <a:avLst/>
          </a:prstGeom>
          <a:ln w="0">
            <a:noFill/>
          </a:ln>
        </p:spPr>
      </p:pic>
      <p:pic>
        <p:nvPicPr>
          <p:cNvPr id="948" name="图片 59421" descr=""/>
          <p:cNvPicPr/>
          <p:nvPr/>
        </p:nvPicPr>
        <p:blipFill>
          <a:blip r:embed="rId12"/>
          <a:stretch/>
        </p:blipFill>
        <p:spPr>
          <a:xfrm>
            <a:off x="4591080" y="5103720"/>
            <a:ext cx="325440" cy="357120"/>
          </a:xfrm>
          <a:prstGeom prst="rect">
            <a:avLst/>
          </a:prstGeom>
          <a:ln w="0">
            <a:noFill/>
          </a:ln>
        </p:spPr>
      </p:pic>
      <p:pic>
        <p:nvPicPr>
          <p:cNvPr id="949" name="图片 59422" descr=""/>
          <p:cNvPicPr/>
          <p:nvPr/>
        </p:nvPicPr>
        <p:blipFill>
          <a:blip r:embed="rId13"/>
          <a:stretch/>
        </p:blipFill>
        <p:spPr>
          <a:xfrm>
            <a:off x="7515360" y="5113440"/>
            <a:ext cx="32544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图片 58373" descr=""/>
          <p:cNvPicPr/>
          <p:nvPr/>
        </p:nvPicPr>
        <p:blipFill>
          <a:blip r:embed="rId1"/>
          <a:stretch/>
        </p:blipFill>
        <p:spPr>
          <a:xfrm>
            <a:off x="276120" y="1843200"/>
            <a:ext cx="8591760" cy="317160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2"/>
          <a:stretch/>
        </p:blipFill>
        <p:spPr>
          <a:xfrm>
            <a:off x="1403280" y="3016080"/>
            <a:ext cx="792360" cy="25740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3"/>
          <a:stretch/>
        </p:blipFill>
        <p:spPr>
          <a:xfrm>
            <a:off x="3564000" y="3006720"/>
            <a:ext cx="792000" cy="2570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4"/>
          <a:stretch/>
        </p:blipFill>
        <p:spPr>
          <a:xfrm>
            <a:off x="5724360" y="2997360"/>
            <a:ext cx="792360" cy="25704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5"/>
          <a:stretch/>
        </p:blipFill>
        <p:spPr>
          <a:xfrm>
            <a:off x="7885080" y="2997360"/>
            <a:ext cx="792360" cy="25704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6"/>
          <a:stretch/>
        </p:blipFill>
        <p:spPr>
          <a:xfrm>
            <a:off x="1403280" y="3386160"/>
            <a:ext cx="792360" cy="25704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7"/>
          <a:stretch/>
        </p:blipFill>
        <p:spPr>
          <a:xfrm>
            <a:off x="3564000" y="3386160"/>
            <a:ext cx="792000" cy="25704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8"/>
          <a:stretch/>
        </p:blipFill>
        <p:spPr>
          <a:xfrm>
            <a:off x="5724360" y="3386160"/>
            <a:ext cx="792360" cy="25704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9"/>
          <a:stretch/>
        </p:blipFill>
        <p:spPr>
          <a:xfrm>
            <a:off x="7956720" y="3419640"/>
            <a:ext cx="792000" cy="25704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10"/>
          <a:stretch/>
        </p:blipFill>
        <p:spPr>
          <a:xfrm>
            <a:off x="2195640" y="4302000"/>
            <a:ext cx="792000" cy="25740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11"/>
          <a:stretch/>
        </p:blipFill>
        <p:spPr>
          <a:xfrm>
            <a:off x="4932360" y="4302000"/>
            <a:ext cx="792000" cy="25740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12"/>
          <a:stretch/>
        </p:blipFill>
        <p:spPr>
          <a:xfrm>
            <a:off x="7985160" y="4292640"/>
            <a:ext cx="792000" cy="25704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13"/>
          <a:stretch/>
        </p:blipFill>
        <p:spPr>
          <a:xfrm>
            <a:off x="2205000" y="4724280"/>
            <a:ext cx="792360" cy="25740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14"/>
          <a:stretch/>
        </p:blipFill>
        <p:spPr>
          <a:xfrm>
            <a:off x="5076720" y="4705200"/>
            <a:ext cx="792360" cy="25740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15"/>
          <a:stretch/>
        </p:blipFill>
        <p:spPr>
          <a:xfrm>
            <a:off x="7677000" y="4705200"/>
            <a:ext cx="79236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2:16:42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